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3FC-DB2B-4B6A-8EF0-93F07ECC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CC7-F237-4A8E-9CD7-DE1375EA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187-D9EF-460A-9316-2FA68D06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163-9BC8-4AE8-9A07-D6F0BCA6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7D9C-6262-4AD3-A5C2-A2A80557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C013-3C79-4BBE-A16D-B6140C95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1C8F-6B5D-42B4-9CC3-EB43EBD3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AADF-1AB0-48CA-8C90-BF21148E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05A4-0857-461D-B924-DD90106E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FB33-1DBD-40A4-805D-D3DDDA3C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CF51-D8BA-4F4D-A2AF-9C3563E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911-B9AA-4C2D-A6C8-65B57AE8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9B82-C8D6-4474-9674-E36BF58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443C-3993-44F4-AAA8-4AC86A71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E7D6-48CD-4CD7-9EDE-1F20689A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A923-2455-42CB-AEEC-5D9BF0ED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811B-D2AE-4412-B7C4-2FB66F90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D42-873C-4F0B-8F90-17096540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DBB-96EC-40C8-935A-4A09A9D9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62C-06F5-4271-AAD5-2384AEDD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F26-8A8E-4A76-ACBB-DEAE7F58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107-3CBC-45FC-A9E2-26DD28DF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58C-AF56-4FAB-8B87-FE2B6D9E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DD1-2B9C-4C57-AE8B-E844C3A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96AD-C38D-477D-86BB-3F42BB2BAD81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DC0C-CB6B-44D0-B59F-85A313755688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Successful Interview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04760" y="3559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king the most of the 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esponding to Competency Q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ive me an example of a problem you encountered. How did you approach it.  What was the outc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Describe the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: Explain the task/problem that a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action did you 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: What was the result or outc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id you learn from this exper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Matching Skills to Requirement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mploye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r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to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from C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rep,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raising for ch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in Super Qui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Your Answer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sten carefully, seek cla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llustrate answers with real examples and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e positive – constructive criti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eep answers specific and succin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ake time to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e alert to interviewer’s  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peak clearly, smile and show enthusi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now what you want to say, and find th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24360" y="3438360"/>
            <a:ext cx="3419640" cy="3419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Qualities Employers Seek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all-round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husiasm, commitment and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communic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 work 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solv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to work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ive and self-re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d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Competencies required by X Company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 for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th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Exchang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Difficult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940360" y="1844640"/>
            <a:ext cx="3203640" cy="34560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Your Ques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aining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reer developmen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ypes of projects &amp;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porting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erformance apprai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file of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Questions about topics raised in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happens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terview Marking Shee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79600" y="1981080"/>
          <a:ext cx="7626240" cy="4114800"/>
        </p:xfrm>
        <a:graphic>
          <a:graphicData uri="http://schemas.openxmlformats.org/drawingml/2006/table">
            <a:tbl>
              <a:tblPr/>
              <a:tblGrid>
                <a:gridCol w="3813120"/>
                <a:gridCol w="381312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-max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em 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m 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evant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Manag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Mar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Interview Rating Scal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ating: 0-5; 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0=no response; 5=excel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lligence – Academic performance,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sponsibility – Work roles, external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ppearance &amp; poise – First im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personal relations – Interests, team-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grity – no inconsist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lf-confidence – Relaxed manner, respo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mmunication skills – Articulate, coherent, grammar, respo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ests – External interests, invol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eadership potential – Elective offices, 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viewing skills – Logical thinking, knows pri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at creates a bad impress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personal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attitude – evasive, using exc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interest and enthusi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knowledge of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give concrete examples of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emphasis on money/rew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career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After the Interview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view ow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went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went bad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you wished you had s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epare for next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itation to second / final round inter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cen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ychometric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nel 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jection letter /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an request feedback -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Overview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for 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view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to expect and to 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Cen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metric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elephone Interview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as thoroughly as for ‘real’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comfortable, private, quiet 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copy of CV and company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pen and paper at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for usual interview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 on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cord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y  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mile and use ges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void mono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219640" y="4462560"/>
            <a:ext cx="3924360" cy="239544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Other Types  Of Interview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9280" y="1828440"/>
            <a:ext cx="7345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ot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ike one-to-one with different intervie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6-8 candi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roup observed while discussing t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e aware of group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2-5 interviewers, or as many as 13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ry to identify different 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spond to interviewer, include others through eye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y involv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Assessment Centr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pany premises or neutral 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cludes social or informal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eting with recent graduates or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tiviti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roup exerc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actical tasks and exerc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port wr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sychometric assess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imulates real work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Psychometric Test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e Te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skills relevant to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comprehension - evaluate logic of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al reasoning - interpret statistic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rammatic reasoning - recognise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timing – complete as many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ty Question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personality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ight or wrong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pontaneous, don’t try to second-gu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include built-in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rs may be looking for different personality pro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IE" sz="4400" spc="-1" strike="noStrike">
                <a:solidFill>
                  <a:srgbClr val="996633"/>
                </a:solidFill>
                <a:latin typeface="Times New Roman"/>
              </a:rPr>
              <a:t>Interview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terview = A meeting with an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mployer’s objective is to find the best person for the jo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mployer: reviews candidate’s experience and 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Can you do the job?  (skills, abilities, qualif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Will you do the job?  (interest, attitude &amp; moti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How will you fit into the organisation? (person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You: impress employer and assess position on 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What does this position offer 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How does it fit with my career pl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ngratulations - you have passed the first hur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You must prove that you are the most suitable candidate for this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600" spc="-1" strike="noStrike">
                <a:solidFill>
                  <a:srgbClr val="996633"/>
                </a:solidFill>
                <a:latin typeface="Arial"/>
              </a:rPr>
              <a:t>Preparation is the key to succes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47280" y="1828800"/>
            <a:ext cx="7417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view own skills, experiences and 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eck 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ticipate questions and identify relevant ex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epare key selling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search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bsites, reports, articles, company literature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ntacts with knowledge of organisation o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levant articles in the 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ersonal visit or telephone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search job and occupationa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ob description – or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urrent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epare your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Watch the Body Languag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irst impressions very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Halo effect or Devil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ow time to rel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ress appropriat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ntrance, introductions &amp; 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mile and make eye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e aware of own m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atch body language of inter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996633"/>
                </a:solidFill>
                <a:latin typeface="Arial"/>
              </a:rPr>
              <a:t>Typical Ques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47280" y="1752120"/>
            <a:ext cx="7596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bout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Tell me about yourself  -  Bring me up to date with your C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y did you choose that particular degree program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experience have you had that is relevant to this po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would you consider your major achievements to d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bout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interests you about this jo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do you know about this organis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other options are you consider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How do you see your career developing – 5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If you were Head of Department, what would be your priorit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neral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 do you think of the Government’s policy on college fe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hat’s your opinion of the MS bid for Yaho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ther Type of Ques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”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perience - how are you likely to respond to a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ing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xactly did you deal with the sit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you know it wor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you feel about the outc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you have handled it differen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Competency-based Interview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identifies key skills required for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s questions to elicit evidence of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past behaviour as predictor of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scribe a team project you  worked on.  What problems arose? How did you deal with the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Skil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scribe situation when you had to persuade others to support your view.  Give an example of any reports you’ve written which illustrate your writing 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 kinds of people do you find it difficult to work with?  How do you handle those situ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Responsibil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scribe a time when you took responsibility to achieve a challenging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-solv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ll about a time when you had several tasks to manage at one time with conflicting dead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paring for Competency Interview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competencies required for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job description or ask fo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each competency in behaviour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ast experience to illustrate how you demonstrated that behavi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examples for each compe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e talking about your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give a complete answer -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47:14Z</dcterms:created>
  <dc:creator/>
  <dc:description/>
  <dc:language>en-US</dc:language>
  <cp:lastModifiedBy>Lokesh</cp:lastModifiedBy>
  <dcterms:modified xsi:type="dcterms:W3CDTF">2008-02-05T17:20:42Z</dcterms:modified>
  <cp:revision>0</cp:revision>
  <dc:subject/>
  <dc:title/>
</cp:coreProperties>
</file>